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C14E-5D57-4B36-813F-D65231B6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D5AF2-866E-4780-A958-705B16169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DF8A5-4230-423E-9E96-077484A73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A871-42F3-4338-A34F-153FE839E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60FB9-63C7-4E91-9AFB-F3D22A00B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60BB-D495-46CE-9B33-04FA6601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B513-4D9B-4D38-AFD2-C97CA67B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E9B3-EF6B-403D-AF61-AB0FD4DE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E8C4-338B-4F3A-AB56-E793D0315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2746-F4A7-421B-BB8A-500ABDB0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E7B3-8D61-425B-BF37-2BBE67234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44A0-9DBD-407E-8189-8CEF1012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4803-5D25-48AF-9DEA-7BDB8174A9CF}"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2800" spc="-1" strike="noStrike">
                <a:solidFill>
                  <a:srgbClr val="000000"/>
                </a:solidFill>
                <a:latin typeface="Calibri"/>
              </a:rPr>
              <a:t>SÖZLÜ KOMPOZİSYON TÜR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0920" y="558720"/>
            <a:ext cx="7921440" cy="40658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1500" spc="-1" strike="noStrike">
                <a:solidFill>
                  <a:srgbClr val="000000"/>
                </a:solidFill>
                <a:latin typeface="Calibri"/>
              </a:rPr>
              <a:t>5. MÜNAZARA</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Herhangi bir düşünce ile karşıt bir düşüncenin seçici kurul ve dinleyiciler önünde, önceden oluşturulan iki grup tarafından tartışılmasıdı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Münazarada tez ve antitez olmak üzere iki zıt görüş vardır. Bir fikir ve söz yarışıdır. Her iki grubun kendi sözcüsü (başkanı) vardır. Grup sözcüleri arkadaşlarını tek tek tanıtır. Grup üyeleri konuşmalarını yaparlar. Son olarak sözcüler savunmalarını yaparak münazarayı bitirirl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Jüri, konuşmaların hazırlıklarına, savunmalarına ve konuşmadaki başarılarına bakarak galip tarafı ilan ed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Amaç doğru tezi belirlemek değil, tezini en güzel şekilde savunmaktı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920" y="701280"/>
            <a:ext cx="7921440" cy="392292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700" spc="-1" strike="noStrike">
                <a:solidFill>
                  <a:srgbClr val="000000"/>
                </a:solidFill>
                <a:latin typeface="Calibri"/>
              </a:rPr>
              <a:t>	</a:t>
            </a:r>
            <a:r>
              <a:rPr b="1" lang="tr-TR" sz="1500" spc="-1" strike="noStrike">
                <a:solidFill>
                  <a:srgbClr val="000000"/>
                </a:solidFill>
                <a:latin typeface="Calibri"/>
              </a:rPr>
              <a:t>6. BİLGİ ŞÖLENİ(SEMPOZYUM)</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ff0000"/>
                </a:solidFill>
                <a:latin typeface="Calibri"/>
              </a:rPr>
              <a:t> </a:t>
            </a:r>
            <a:r>
              <a:rPr b="0" lang="tr-TR" sz="1500" spc="-1" strike="noStrike">
                <a:solidFill>
                  <a:srgbClr val="ff0000"/>
                </a:solidFill>
                <a:latin typeface="Calibri"/>
              </a:rPr>
              <a:t>	</a:t>
            </a:r>
            <a:r>
              <a:rPr b="0" lang="tr-TR" sz="1500" spc="-1" strike="noStrike">
                <a:solidFill>
                  <a:srgbClr val="000000"/>
                </a:solidFill>
                <a:latin typeface="Calibri"/>
              </a:rPr>
              <a:t>Bir konunun çeşitli yönlerinin değişik kimseler tarafından belirli bir program dahilinde bir dinleyici kitlesi önünde sözlü olarak aktarılmasıdı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Diğer konuşma türlerine göre daha ilmî ve ciddi bir sohbet havasında geçer. Her konuşmacı konuyu kendi ilgi alanı açısından ele alır. Amaç konuyu tartışmak değil, olumlu ve olumsuz yönleriyle değerlendirilen konuya bir çözüm üretmekti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Sempozyumu oturum başkanları yönetir. Konuşmacı sayısı üç ile altı arasında değişebilir. Konunun önemine göre oturumlar halinde ayrı salonlar  halinde ve birkaç gün sürebili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MUHAMMET\Desktop\kangwdsa.jpg"/>
          <p:cNvPicPr/>
          <p:nvPr/>
        </p:nvPicPr>
        <p:blipFill>
          <a:blip r:embed="rId1"/>
          <a:stretch/>
        </p:blipFill>
        <p:spPr>
          <a:xfrm>
            <a:off x="2563920" y="0"/>
            <a:ext cx="3294000" cy="46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Documents and Settings\Administrator\Desktop\kim_kon_afis.jpg"/>
          <p:cNvPicPr/>
          <p:nvPr/>
        </p:nvPicPr>
        <p:blipFill>
          <a:blip r:embed="rId1"/>
          <a:stretch/>
        </p:blipFill>
        <p:spPr>
          <a:xfrm>
            <a:off x="2654280" y="144360"/>
            <a:ext cx="3357720" cy="45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630000"/>
            <a:ext cx="7850160" cy="39942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900" spc="-1" strike="noStrike">
                <a:solidFill>
                  <a:srgbClr val="000000"/>
                </a:solidFill>
                <a:latin typeface="Calibri"/>
              </a:rPr>
              <a:t>	</a:t>
            </a:r>
            <a:r>
              <a:rPr b="1" lang="tr-TR" sz="1600" spc="-1" strike="noStrike">
                <a:solidFill>
                  <a:srgbClr val="000000"/>
                </a:solidFill>
                <a:latin typeface="Calibri"/>
              </a:rPr>
              <a:t>7. AÇIK OTURUM</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Önceden belirlenen ve toplumu yakından ilgilendiren bir konunun bir başkan yönetiminde en az üç kişiden oluşan uzman kişilerce topluluk önünde ortaya konulmasına açık oturum denir.</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Başkan, sırayla ve dönüşümlü olarak konuşmacılara sorular yöneltir, gerektiğinde kısa değerlendirmeler yapar. Tartışma boyunca tarafsız olmak, konuşmacılara verilen süreyi dengeli şekilde ayarlamak  başkanın aslî görevlerindendir. </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Amaç, bir sonuca varmaktan çok dinleyicileri ayrıntılı olarak bilgilendirmektir. Sonucu bulmak dinleyicilere bırakılı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558720"/>
            <a:ext cx="7993080" cy="4065840"/>
          </a:xfrm>
          <a:prstGeom prst="rect">
            <a:avLst/>
          </a:prstGeom>
          <a:noFill/>
          <a:ln w="0">
            <a:noFill/>
          </a:ln>
        </p:spPr>
        <p:txBody>
          <a:bodyPr lIns="67320" rIns="67320" tIns="33480" bIns="33480" anchor="t">
            <a:noAutofit/>
          </a:bodyPr>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7. PANEL</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lumu ilgilendiren bir konunun dinleyiciler önünde sohbet havası içinde uzmanları tarafından tartışıldığı konuşmalara panel denir. Konu sonuca varmaktan çok çeşitli yönleriyle aydınlatılı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aşkan bulunur. Konuşmacı sayısı üç ile altı arasında değişir. Konuşmacılar uzmanı oldukları konunun ayrı birer yönünü ele alırla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nel sonunda dinleyiciler panel üyelerine soru sorabilirler, tartışma dinleyicilere de geçerse o zaman panel, forum şekline dönüşmüş ol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Users\MUHAMMET\Desktop\mehmet_akif_necip.jpg"/>
          <p:cNvPicPr/>
          <p:nvPr/>
        </p:nvPicPr>
        <p:blipFill>
          <a:blip r:embed="rId1"/>
          <a:stretch/>
        </p:blipFill>
        <p:spPr>
          <a:xfrm>
            <a:off x="2168640" y="0"/>
            <a:ext cx="3903480" cy="46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MUHAMMET\Desktop\kadınlar günü paneli.jpg"/>
          <p:cNvPicPr/>
          <p:nvPr/>
        </p:nvPicPr>
        <p:blipFill>
          <a:blip r:embed="rId1"/>
          <a:stretch/>
        </p:blipFill>
        <p:spPr>
          <a:xfrm>
            <a:off x="2565360" y="0"/>
            <a:ext cx="318456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MUHAMMET\Desktop\_DSC5733.JPG"/>
          <p:cNvPicPr/>
          <p:nvPr/>
        </p:nvPicPr>
        <p:blipFill>
          <a:blip r:embed="rId1"/>
          <a:stretch/>
        </p:blipFill>
        <p:spPr>
          <a:xfrm>
            <a:off x="214200" y="0"/>
            <a:ext cx="785808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600" spc="-1" strike="noStrike">
                <a:solidFill>
                  <a:srgbClr val="000000"/>
                </a:solidFill>
                <a:latin typeface="Calibri"/>
              </a:rPr>
              <a:t>8. FORUM </a:t>
            </a:r>
            <a:endParaRPr b="0" lang="en-US" sz="26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Bir başkanın yönetiminde toplumu ilgilendiren bir konuda farklı gruplardan oluşan dinleyicilerin söz alarak konuşma kuralları içerisinde yaptıkları tartışmalara forum adı verilir. Panelin veya açıkoturum sonunda dinleyicilerin de tartışmaya katılmasıd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400" spc="-1" strike="noStrike">
                <a:solidFill>
                  <a:srgbClr val="000000"/>
                </a:solidFill>
                <a:latin typeface="Calibri"/>
              </a:rPr>
              <a:t>	</a:t>
            </a:r>
            <a:r>
              <a:rPr b="0" lang="tr-TR" sz="2000" spc="-1" strike="noStrike">
                <a:solidFill>
                  <a:srgbClr val="000000"/>
                </a:solidFill>
                <a:latin typeface="Calibri"/>
                <a:ea typeface="Times New Roman"/>
              </a:rPr>
              <a:t>Kompozisyon, birleştirmek, bir konu ile ilgili dağınık ve değişik malzemeyi belli bir amaç için bir düzen içinde bir araya getirmek demektir. Kompozisyonda düzen esastı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İnsanoğlu, yüzyıllarca duygu ve düşüncelerini sözle ifade etmiştir. Başlangıçta söz vardı, konuşma vardı. Yazı daha sonra bulunmuştu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Sözlü kompozisyonun amacı, kişiye duygu ve düşüncelerini anlaşılır, tam ve doğru bir biçimde ifade etme becerisi kazandırmaktır.</a:t>
            </a:r>
            <a:endParaRPr b="0" lang="en-US" sz="2000" spc="-1" strike="noStrike">
              <a:solidFill>
                <a:srgbClr val="000000"/>
              </a:solidFill>
              <a:latin typeface="Calibri"/>
            </a:endParaRPr>
          </a:p>
          <a:p>
            <a:pPr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694800"/>
            <a:ext cx="777564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700" spc="-1" strike="noStrike">
                <a:solidFill>
                  <a:srgbClr val="000000"/>
                </a:solidFill>
                <a:latin typeface="Calibri"/>
              </a:rPr>
              <a:t>	</a:t>
            </a:r>
            <a:r>
              <a:rPr b="1" lang="tr-TR" sz="2600" spc="-1" strike="noStrike">
                <a:solidFill>
                  <a:srgbClr val="000000"/>
                </a:solidFill>
                <a:latin typeface="Calibri"/>
              </a:rPr>
              <a:t>9. SEMİNE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yla ilgili yapılan araştırma sonuçları hakkında bilgi vermek ve bu bilgiler üzerinde tartışma açmak amacıyla birkaç yetkilinin yönetimi altında düzenlenen toplantılara seminer deni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Seminerler genellikle akademik bir özellik taş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Users\MUHAMMET\Desktop\Öğretim Üyelerinin Teknoloji Geliştirme Bölgelerine Potansiyel Katkıları (1).jpg"/>
          <p:cNvPicPr/>
          <p:nvPr/>
        </p:nvPicPr>
        <p:blipFill>
          <a:blip r:embed="rId1"/>
          <a:stretch/>
        </p:blipFill>
        <p:spPr>
          <a:xfrm>
            <a:off x="2643120" y="49320"/>
            <a:ext cx="3143160" cy="45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Administrator\Desktop\P3250242.JPG"/>
          <p:cNvPicPr/>
          <p:nvPr/>
        </p:nvPicPr>
        <p:blipFill>
          <a:blip r:embed="rId1"/>
          <a:stretch/>
        </p:blipFill>
        <p:spPr>
          <a:xfrm>
            <a:off x="1246320" y="144360"/>
            <a:ext cx="570204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ff0000"/>
                </a:solidFill>
                <a:latin typeface="Calibri"/>
              </a:rPr>
              <a:t>	</a:t>
            </a:r>
            <a:r>
              <a:rPr b="1" lang="tr-TR" sz="2400" spc="-1" strike="noStrike">
                <a:solidFill>
                  <a:srgbClr val="000000"/>
                </a:solidFill>
                <a:latin typeface="Calibri"/>
              </a:rPr>
              <a:t>10. BİLDİRİ (TEBLİĞ) </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Bilim, fikir ve sanat adamlarının kendi alanlarıyla ilgili bir konuda bir yenilik getirmek, özgün bir buluşu ortaya koymak ve akademik amaçlı bir toplantıda bunu sunmak üzere, ilmî bir üslupla hazırladıkları bilimsel yazıya “bildiri (tebliğ)” denir.</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Administrator\Desktop\ahmet mithat efendi 20.12.2012 (124).JPG"/>
          <p:cNvPicPr/>
          <p:nvPr/>
        </p:nvPicPr>
        <p:blipFill>
          <a:blip r:embed="rId1"/>
          <a:stretch/>
        </p:blipFill>
        <p:spPr>
          <a:xfrm>
            <a:off x="1258920" y="558720"/>
            <a:ext cx="5977080" cy="38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94800"/>
            <a:ext cx="7632720" cy="392940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HAZIRLIKSIZ KONUŞMALAR</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1. TANIŞMA</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birini tanımayan, fakat çeşitli sebeplerle bir arada bulunan kişiler birbirleriyle tanışmak gereği duyabilirler. Bu durumda önce kişiler birbirine adlarını söylerler, tanıştıklarına memnun olduklarını ifade ederle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nışma, insanlar arasındaki sözlü iletişimde selamlaşmadan sonraki en önemli adımd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468360" y="630360"/>
            <a:ext cx="7704000" cy="392904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2.ADRES SORMA ve ADRES TARİFİ</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adres ya da yer sorulduğunda yer kesin olarak bilinmiyorsa soranı yanıltmamak ve zaman kaybını önlemek için adresin tam olarak bilinmediği açıkça ifade edilmelidi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dres tarif edilirken de mümkün olduğu kadar sade ve anlaşılır bir şekilde tarif edilmelidir. Mesafe için isabetli tahmin yapılamıyorsa ölçü vermekten kaçını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280" y="630360"/>
            <a:ext cx="7704360" cy="392904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400" spc="-1" strike="noStrike">
                <a:solidFill>
                  <a:srgbClr val="000000"/>
                </a:solidFill>
                <a:latin typeface="Calibri"/>
              </a:rPr>
              <a:t>3. KUTLAMA (TEBRİK)</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hangi bir konuyla ilgili duyulan sevinç ve memnuniyeti ifade etmektir. Tebrik, yapmacıklığa düşmeden, abartıya kaçmadan samimî bir üslupla dile getirilmelidir. Tebrik edilen kişi de karşı tarafa teşekkür etmeli ve tevazu gösterme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30360"/>
            <a:ext cx="7561440" cy="39290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4. TELEFONLA KONUŞMA  </a:t>
            </a:r>
            <a:endParaRPr b="0" lang="en-US" sz="18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elefon eden kişi, selamdan sonra hemen kendisini tanıtmalı, kısaca bir hâl hatır sorduktan sonra niçin telefon edilmişse o konuya geçilmelidir. Konuşma tamamlandıktan sonra iyi  dileklerle telefon kapatılmalıdır. Telefon eden kendisini tanıtmamışsa, kiminle konuşulduğu kibarca soru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630360"/>
            <a:ext cx="8064720" cy="3929040"/>
          </a:xfrm>
          <a:prstGeom prst="rect">
            <a:avLst/>
          </a:prstGeom>
          <a:noFill/>
          <a:ln w="0">
            <a:noFill/>
          </a:ln>
        </p:spPr>
        <p:txBody>
          <a:bodyPr lIns="67320" rIns="67320" tIns="33480" bIns="33480" anchor="t">
            <a:noAutofit/>
          </a:bodyPr>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800" spc="-1" strike="noStrike">
                <a:solidFill>
                  <a:srgbClr val="000000"/>
                </a:solidFill>
                <a:latin typeface="Calibri"/>
              </a:rPr>
              <a:t>Kaynaklar</a:t>
            </a:r>
            <a:endParaRPr b="0" lang="en-US" sz="18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400" spc="-1" strike="noStrike">
                <a:solidFill>
                  <a:srgbClr val="000000"/>
                </a:solidFill>
                <a:latin typeface="Calibri"/>
              </a:rPr>
              <a:t>1. Yakup Karasoy, Orhan Yavuz, Ahmet Kayasandık, Bekir Direkci, Üniversiteler için Uygulamalı Türk Dili ve Kompozisyon Bilgileri, Aybil Yay., Konya, 2012.</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2. Kemal Yavuz, Kazım Yetiş, Necat Birinci, Üniversite Türk Dili ve Kompozisyon Dersleri, Bayrak yay., İst., 1999.</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3. Ali Emirosmanoğlu, Yükseköğretim Öğrencileri İçin Türkçe Kompozisyon,  Emek Matbaacılık, Manisa, 2006</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4. Gülşen seyhan Alışık, Latif Beyreli, Liseler İçin Güzel Konuşma ve Yazma, Meb Yay., Ankara, 2001.</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558720"/>
            <a:ext cx="7920000" cy="4065840"/>
          </a:xfrm>
          <a:prstGeom prst="rect">
            <a:avLst/>
          </a:prstGeom>
          <a:noFill/>
          <a:ln w="0">
            <a:noFill/>
          </a:ln>
        </p:spPr>
        <p:txBody>
          <a:bodyPr lIns="67320" rIns="67320" tIns="33480" bIns="33480" anchor="t">
            <a:noAutofit/>
          </a:bodyPr>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Hazırlıklı Konuşmalar: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Hazırlıksız Konuşmalar:</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Nutuk (Söylev)</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nı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Konferans</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dres sor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lakat (görüşme)</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Kutla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Tartışma</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elefonla konu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nazar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lgi şöleni (sempozy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Açık otu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Panel</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Fo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Semi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920" y="630000"/>
            <a:ext cx="7921440" cy="3994200"/>
          </a:xfrm>
          <a:prstGeom prst="rect">
            <a:avLst/>
          </a:prstGeom>
          <a:noFill/>
          <a:ln w="0">
            <a:noFill/>
          </a:ln>
        </p:spPr>
        <p:txBody>
          <a:bodyPr lIns="67320" rIns="67320" tIns="33480" bIns="33480" anchor="t">
            <a:noAutofit/>
          </a:bodyPr>
          <a:p>
            <a:pPr marL="514440" indent="-514440">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ff0000"/>
                </a:solidFill>
                <a:latin typeface="Calibri"/>
              </a:rPr>
              <a:t>	</a:t>
            </a:r>
            <a:r>
              <a:rPr b="0" lang="tr-TR" sz="1100" spc="-1" strike="noStrike">
                <a:solidFill>
                  <a:srgbClr val="ff0000"/>
                </a:solidFill>
                <a:latin typeface="Calibri"/>
              </a:rPr>
              <a:t>	</a:t>
            </a:r>
            <a:r>
              <a:rPr b="1" lang="tr-TR" sz="1800" spc="-1" strike="noStrike">
                <a:solidFill>
                  <a:srgbClr val="000000"/>
                </a:solidFill>
                <a:latin typeface="Calibri"/>
              </a:rPr>
              <a:t>1. NUTUK (SÖYLEV)</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 topluluğa bir fikri, bir duyguyu aşılamak veya heyecan vermek için coşkun ve edebî bir dille  yapılan konuşmalara nutuk, konuşmacıya da hatip adı verilir.</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Nutuktan amaç, heyecan yaratarak bir düşünceyi aşılamaktır. Nutukta, topluluğun ilgisini çekecek bir giriş ile konuşmaya başlanır. Konu; kesin, açık ve inandırıcı biçimde ortaya konur. İleri sürülen düşünceler ispatlanır. Karşıt görüşlerin yanlışlığı belgelerle çürütülür. Konuşmanın tansiyonu yükseltilerek bir yargıya varılır. </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tatürk’ün “Gençliğe Hitabe”si bu türün önemli örneklerindendir.</a:t>
            </a:r>
            <a:endParaRPr b="0" lang="en-US" sz="1800" spc="-1" strike="noStrike">
              <a:solidFill>
                <a:srgbClr val="000000"/>
              </a:solidFill>
              <a:latin typeface="Calibri"/>
            </a:endParaRPr>
          </a:p>
          <a:p>
            <a:pPr marL="514440" indent="-514440"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ministrator\Desktop\ataturk8.jpg"/>
          <p:cNvPicPr/>
          <p:nvPr/>
        </p:nvPicPr>
        <p:blipFill>
          <a:blip r:embed="rId1"/>
          <a:stretch/>
        </p:blipFill>
        <p:spPr>
          <a:xfrm>
            <a:off x="2843280" y="552600"/>
            <a:ext cx="3251160" cy="41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000000"/>
                </a:solidFill>
                <a:latin typeface="Calibri"/>
              </a:rPr>
              <a:t>	</a:t>
            </a:r>
            <a:r>
              <a:rPr b="1" lang="tr-TR" sz="2100" spc="-1" strike="noStrike">
                <a:solidFill>
                  <a:srgbClr val="000000"/>
                </a:solidFill>
                <a:latin typeface="Calibri"/>
              </a:rPr>
              <a:t>2. KONFERANS</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lim, sanat, fikir adamı gibi alanında uzman bir kişinin bir konuyu açıklamak, tanıtmak ve ispatlamak amacıyla topluluk karşısında yaptığı hazırlıklı konuşmaya konferans den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Konferansta amaç, dinleyicileri coşturmak değil, onları belli bir konuda bilgilendirmektir. Bu yüzden konferansta anlaşılır, sade bir dil kullanılmalı, hayattan örneklere yer verilmelid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C:\Users\MUHAMMET\Desktop\zxza0ywv.jpg"/>
          <p:cNvPicPr/>
          <p:nvPr/>
        </p:nvPicPr>
        <p:blipFill>
          <a:blip r:embed="rId1"/>
          <a:stretch/>
        </p:blipFill>
        <p:spPr>
          <a:xfrm>
            <a:off x="0" y="0"/>
            <a:ext cx="3656160" cy="4645080"/>
          </a:xfrm>
          <a:prstGeom prst="rect">
            <a:avLst/>
          </a:prstGeom>
          <a:ln w="0">
            <a:noFill/>
          </a:ln>
        </p:spPr>
      </p:pic>
      <p:pic>
        <p:nvPicPr>
          <p:cNvPr id="48" name="Picture 4" descr="C:\Users\MUHAMMET\Desktop\_DSC6308.JPG"/>
          <p:cNvPicPr/>
          <p:nvPr/>
        </p:nvPicPr>
        <p:blipFill>
          <a:blip r:embed="rId2"/>
          <a:stretch/>
        </p:blipFill>
        <p:spPr>
          <a:xfrm>
            <a:off x="3643200" y="0"/>
            <a:ext cx="550080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8920" y="630360"/>
            <a:ext cx="7993080" cy="400032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2600" spc="-1" strike="noStrike">
                <a:solidFill>
                  <a:srgbClr val="000000"/>
                </a:solidFill>
                <a:latin typeface="Calibri"/>
              </a:rPr>
              <a:t>3.MÜLAKAT (GÖRÜŞME/RÖPORTAJ)</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nun uzmanı bir kimse ile karşılıklı yapılan konuşmalara mülakat denir. Önemli bir konuyu aydınlatmak üzere yapılır. Mülakatı gerçekleştirecek kimse sorularını önceden hazırlamalı, konuşacağı kimsenin hayatı, sanatı ve fikirleri hakkında bilgi sahibi olmalıdır. </a:t>
            </a:r>
            <a:endParaRPr b="0" lang="en-US" sz="2600" spc="-1" strike="noStrike">
              <a:solidFill>
                <a:srgbClr val="000000"/>
              </a:solidFill>
              <a:latin typeface="Calibri"/>
            </a:endParaRPr>
          </a:p>
          <a:p>
            <a:pPr algn="just">
              <a:lnSpc>
                <a:spcPct val="8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24000" y="630000"/>
            <a:ext cx="7920000" cy="3994200"/>
          </a:xfrm>
          <a:prstGeom prst="rect">
            <a:avLst/>
          </a:prstGeom>
          <a:noFill/>
          <a:ln w="0">
            <a:noFill/>
          </a:ln>
        </p:spPr>
        <p:txBody>
          <a:bodyPr lIns="67320" rIns="67320" tIns="33480" bIns="33480" anchor="t">
            <a:noAutofit/>
          </a:bodyPr>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000" spc="-1" strike="noStrike">
                <a:solidFill>
                  <a:srgbClr val="000000"/>
                </a:solidFill>
                <a:latin typeface="Calibri"/>
              </a:rPr>
              <a:t>	</a:t>
            </a:r>
            <a:r>
              <a:rPr b="1" lang="tr-TR" sz="2100" spc="-1" strike="noStrike">
                <a:solidFill>
                  <a:srgbClr val="000000"/>
                </a:solidFill>
                <a:latin typeface="Calibri"/>
              </a:rPr>
              <a:t>4.TARTIŞMA</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r konu hakkında farklı düşünceleri olan kişilerin konuyla ilgili görüşlerini açıklamak, konuyu çözmek, muhatabın zayıf yönlerini aramak amacıyla bir araya gelerek yaptıkları karşılıklı konuşmalara tartışma denir. </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Tartışmadan beklenen gerçeği aramaktır. Tartışmayı bir başkan yönetir. Bir dinleyici grubu önünde yapılan </a:t>
            </a:r>
            <a:r>
              <a:rPr b="0" i="1" lang="tr-TR" sz="2100" spc="-1" strike="noStrike">
                <a:solidFill>
                  <a:srgbClr val="000000"/>
                </a:solidFill>
                <a:latin typeface="Times New Roman"/>
                <a:ea typeface="Times New Roman"/>
              </a:rPr>
              <a:t>münazara, açık oturum, panel, forum ve sempozyum </a:t>
            </a:r>
            <a:r>
              <a:rPr b="0" lang="tr-TR" sz="2100" spc="-1" strike="noStrike">
                <a:solidFill>
                  <a:srgbClr val="000000"/>
                </a:solidFill>
                <a:latin typeface="Calibri"/>
              </a:rPr>
              <a:t>toplu tartışma yöntemlerindend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6:33Z</dcterms:modified>
  <cp:revision>98</cp:revision>
  <dc:subject/>
  <dc:title>CÜMLE VE CÜMLENİN ÖĞELERİ</dc:title>
</cp:coreProperties>
</file>